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41B-E83E-4B29-B1E9-63D4318E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DA6-7347-4F35-9471-758CFB3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7E9-C194-459B-977A-874AD8D9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002-5780-42BB-8059-663AC104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D50-7957-488D-AB05-EE296F0D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96E-2B1C-47E7-8831-9111A9F8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C94-C32A-466F-86BF-43A9760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E13-1B87-4365-A214-70636884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3C4-0601-4897-8F1B-6CC3C4E3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E02-3F00-4888-B9C6-34D4992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8E2-F2EC-4B9D-AE4E-58C2781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A52-3DC1-4E1A-B72C-3534DB9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290-62CC-42E5-A8F3-687E9AE5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762120"/>
          <a:ext cx="8763120" cy="594324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60520"/>
                <a:gridCol w="1460520"/>
                <a:gridCol w="1460520"/>
                <a:gridCol w="146052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Grad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ri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 Rounded MT Bold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8:05-8: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Co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Le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Card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 Rounded MT Bold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9:00-9: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Tur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Pre-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Gam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W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 Rounded MT Bold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9:55-10: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C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J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Ba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87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*Please Check Google Calendar for Available Time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1:50-12: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2:40-1: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:30-2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 txBox="1"/>
          <p:nvPr/>
        </p:nvSpPr>
        <p:spPr>
          <a:xfrm>
            <a:off x="533520" y="38160"/>
            <a:ext cx="820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3-5 Computer Lab Schedul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7238880"/>
            <a:ext cx="6553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unch/Plan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9:37Z</dcterms:created>
  <dc:creator> </dc:creator>
  <dc:description/>
  <dc:language>en-US</dc:language>
  <cp:lastModifiedBy> </cp:lastModifiedBy>
  <dcterms:modified xsi:type="dcterms:W3CDTF">2011-08-10T20:45:23Z</dcterms:modified>
  <cp:revision>2</cp:revision>
  <dc:subject/>
  <dc:title>Slide 1</dc:title>
</cp:coreProperties>
</file>